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1301-4D63-4842-8598-D8CD0BCD29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at is meant by the term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 target cells. A target cell responds to a hormone because it bears receptors for the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 Gland: a gland that secretes externally through a 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 Gland: a gland that secretes hormones into the blood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ncreas has an exocrine portion that secretes digestive enzymes that are carried through a duct to the duodenum. The endocrine portion consists of the pancreatic islets, which secrete glucagons and insul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E9D-B802-4A82-B4F0-677A50F8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AA8-6059-4735-9025-283D0A24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C2A-6B05-4602-99F6-C0958BB2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84E-782D-4462-8275-01AE1B6C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B08-CEAC-4591-A018-AC8AEF78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7F1-3E46-4ECD-BED1-5E59251B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6C8C-3931-46C3-8101-73BD208F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FEF-879B-4A5F-BBFB-44D76C02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614-2662-4399-832B-7DED7105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E4F-BB3A-49AC-9E31-596803AC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E18-E261-42D3-8EF6-2E586554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4BD8-9481-41EF-BFC4-1C8032FB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7884-3058-4AA5-A473-98C99B3C7C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what is meant by the term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 the cellular structure of an islet of Langerhans from the panc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line the role of the pancreas as an endocrine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944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targets"/>
          <p:cNvPicPr/>
          <p:nvPr/>
        </p:nvPicPr>
        <p:blipFill>
          <a:blip r:embed="rId1"/>
          <a:stretch/>
        </p:blipFill>
        <p:spPr>
          <a:xfrm>
            <a:off x="380880" y="1792440"/>
            <a:ext cx="8534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hormone_2"/>
          <p:cNvPicPr/>
          <p:nvPr/>
        </p:nvPicPr>
        <p:blipFill>
          <a:blip r:embed="rId1"/>
          <a:stretch/>
        </p:blipFill>
        <p:spPr>
          <a:xfrm>
            <a:off x="152280" y="1050840"/>
            <a:ext cx="88394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Horm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hormones circulate in blood, coming into contact with essentially all cells. However, a given hormone usually affects only a limited number of cells, which are call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target cel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A target cell responds to a hormone because it bears 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recepto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ffector is usually an or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the advantages of treating diabetics with human insulin produced by genetic enginee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insulin"/>
          <p:cNvPicPr/>
          <p:nvPr/>
        </p:nvPicPr>
        <p:blipFill>
          <a:blip r:embed="rId1"/>
          <a:stretch/>
        </p:blipFill>
        <p:spPr>
          <a:xfrm>
            <a:off x="990720" y="282600"/>
            <a:ext cx="716256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9"/>
          <p:cNvGrpSpPr/>
          <p:nvPr/>
        </p:nvGrpSpPr>
        <p:grpSpPr>
          <a:xfrm>
            <a:off x="3108240" y="1023840"/>
            <a:ext cx="5000760" cy="268200"/>
            <a:chOff x="3108240" y="1023840"/>
            <a:chExt cx="5000760" cy="268200"/>
          </a:xfrm>
        </p:grpSpPr>
        <p:sp>
          <p:nvSpPr>
            <p:cNvPr id="51" name="Rectangle 6"/>
            <p:cNvSpPr/>
            <p:nvPr/>
          </p:nvSpPr>
          <p:spPr>
            <a:xfrm>
              <a:off x="3108240" y="1023840"/>
              <a:ext cx="50007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3108240" y="1023840"/>
              <a:ext cx="5000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8" descr="illu_endocrine_system"/>
          <p:cNvPicPr/>
          <p:nvPr/>
        </p:nvPicPr>
        <p:blipFill>
          <a:blip r:embed="rId1"/>
          <a:stretch/>
        </p:blipFill>
        <p:spPr>
          <a:xfrm>
            <a:off x="2303640" y="152280"/>
            <a:ext cx="4876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figure19c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749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304920" y="6248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-medlib.med.utah.edu/WebPath/ENDOHTML/ENDO03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externally through a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ocrine Gla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 gland that secretes hormones into the bloodst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pancreas has an exocrine portion that secretes digestive enzymes that are carried through a duct to the duodenum. The endocrine portion consists of the pancreatic islets, which secrete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glucagon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insuli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how the blood glucose concentration is regulated by negative feedback control mechanisms, with reference to insulin and gluc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the importance of homeostasis in mammals, and explain the principles of homeostasis in terms of receptors, effectors and negative feed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ugar"/>
          <p:cNvPicPr/>
          <p:nvPr/>
        </p:nvPicPr>
        <p:blipFill>
          <a:blip r:embed="rId1"/>
          <a:stretch/>
        </p:blipFill>
        <p:spPr>
          <a:xfrm>
            <a:off x="2392200" y="152280"/>
            <a:ext cx="4361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4304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743040" y="1085760"/>
            <a:ext cx="7659720" cy="4541760"/>
            <a:chOff x="743040" y="1085760"/>
            <a:chExt cx="7659720" cy="4541760"/>
          </a:xfrm>
        </p:grpSpPr>
        <p:sp>
          <p:nvSpPr>
            <p:cNvPr id="66" name="Rectangle 3"/>
            <p:cNvSpPr/>
            <p:nvPr/>
          </p:nvSpPr>
          <p:spPr>
            <a:xfrm>
              <a:off x="743040" y="1085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743040" y="1085760"/>
              <a:ext cx="765972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  </a:t>
              </a:r>
              <a:r>
                <a:rPr b="0" lang="en-GB" sz="292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</a:t>
              </a:r>
              <a:r>
                <a:rPr b="0" lang="en-GB" sz="900" spc="-1" strike="noStrike">
                  <a:solidFill>
                    <a:srgbClr val="282828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Picture 5" descr="Blood glucose regulation"/>
          <p:cNvPicPr/>
          <p:nvPr/>
        </p:nvPicPr>
        <p:blipFill>
          <a:blip r:embed="rId1"/>
          <a:stretch/>
        </p:blipFill>
        <p:spPr>
          <a:xfrm>
            <a:off x="228600" y="351000"/>
            <a:ext cx="876312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Homeos4"/>
          <p:cNvPicPr/>
          <p:nvPr/>
        </p:nvPicPr>
        <p:blipFill>
          <a:blip r:embed="rId1"/>
          <a:stretch/>
        </p:blipFill>
        <p:spPr>
          <a:xfrm>
            <a:off x="152280" y="1355760"/>
            <a:ext cx="88394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11:53:37Z</dcterms:created>
  <dc:creator>Sarah</dc:creator>
  <dc:description/>
  <dc:language>en-US</dc:language>
  <cp:lastModifiedBy>RomaK</cp:lastModifiedBy>
  <dcterms:modified xsi:type="dcterms:W3CDTF">2015-09-04T10:46:37Z</dcterms:modified>
  <cp:revision>17</cp:revision>
  <dc:subject/>
  <dc:title>Objectives</dc:title>
</cp:coreProperties>
</file>